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tif" ContentType="image/tiff"/>
  <Override PartName="/ppt/media/image21.jpeg" ContentType="image/jpeg"/>
  <Override PartName="/ppt/media/image9.tif" ContentType="image/tiff"/>
  <Override PartName="/ppt/media/image11.png" ContentType="image/png"/>
  <Override PartName="/ppt/media/image1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22.jpeg" ContentType="image/jpeg"/>
  <Override PartName="/ppt/media/image7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4352E-FED6-4484-BFF0-1796EFD300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21B5E-7C72-453E-A946-BF35666F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1109C4-E916-447C-B354-0DABB1AD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8E1BD3-5D55-481A-83DA-4E1F86B4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669191-E0B6-4DC5-A6BF-B85E81C6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9114BB-A898-46F4-900B-297D017E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E8F384-93B6-43F1-9902-A382C8B4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1044CC-FBA3-4C43-8191-71F9B617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2ADD06-6427-4962-A9BA-466E88F1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78A5D3-2E53-4958-94E9-9A987767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3E2E19-1331-4976-8134-4C31AAE4F1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9CF7F-3F3E-46D9-AE1F-911B19DFB2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54DC0-D42A-461F-938C-02BC015F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1BAD0-1718-4389-B331-B5834B95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EBA34-662B-4170-89E0-D7900CCC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D7326-A702-4C6F-9FDA-00F23CD8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55294-DA52-4454-8DB6-D203553B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E9ADF-4F3D-4123-971A-3B52DC6A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4D39D-27E0-441C-BEDD-0A8E4187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2479C-35F2-4786-824F-1D313512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96E1D-816A-49EE-89C9-AE493D3A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457CE-D6B9-4911-BBC6-8E8CFE68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1DC42-8C27-4408-8DEE-E2FD9034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76AB5-B85E-462E-BCBF-69377469C5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D7431-826F-4708-BA98-3B3DD88D9C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639541-84F5-435B-8C43-901017CD91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BF716D-8818-4784-A184-C9C2DE7C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733C45-E511-4761-82E1-1F4748B8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3B3362-2033-4BE7-97B8-8347CC95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36DF7F-0FBE-423F-88BE-73D281FB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EA270F-5CBC-4159-BBB2-48E3ECD0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31DC4D-3A4C-4E36-9F87-1144E7A0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4DEE16-5199-4ED9-802A-2B79AE1D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E80036-7392-472C-8042-FAB2553B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5CAD7-9353-4FF9-9324-E51BA9DA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45B551-72A7-44B2-BB87-366BBB9E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D463F6-1B04-4E23-B576-05425165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C8DF31-B27F-4D33-8935-536270CE7E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1F8D9F-A5FE-451B-AB0B-6BFA82BD88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2F5394-23CE-4C1D-AECB-8451B8C2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EF6E46-30F9-45C6-AE7A-F6BE12F0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37DBC7-25E7-427C-80AB-59695ABE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37B3DD-4705-4DBE-9013-EBD55534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6F4B88-BB23-4E95-8BF3-C6635E03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7E313F-87C2-48BC-A772-D3C9DE78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82F50-B297-4984-A965-36FDA123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C287E9-D694-4362-A620-22BF9D49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D7120F-6D09-43FA-8F5E-46F52505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0D27CD-8AF2-4341-A7C6-ACE9CE04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4412F6-7873-4CC2-BC3B-E527DDE9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C250E0-F519-4D70-AD70-7AAD796711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3E1F3-7F2E-469A-9230-33F95D583D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0E4B3-7018-497B-B306-ACDD4253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D19EA-5CC5-4568-B549-88647F9F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8E4E2-A835-42C2-AC16-B3F46E51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8C256-60F8-4F2C-B8D8-09A5BBBB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0EF45-4DB2-4AD7-91AB-484C5DC6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579A9-1BFA-4420-92CB-BA575AE7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34E33-A5EC-4BF3-B0EF-26243A3B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BA865-9BE4-450C-8921-7A5C1350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B1A5A-6B78-4A75-9D73-17510F70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60901-01D3-4004-8E98-49FE922D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F4634-08EA-4835-A3AE-E45DEC1D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F5B71-7C56-4D0C-8E0A-64F3F04771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4903A-2235-45D4-A5BE-F86EE712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53DD2-A577-45AD-9EE1-BEBA4E95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89BAB-9ED0-46BE-AD2A-7D6B1C03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269ED-C949-46E4-8158-0D1796BE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4D8BE-8606-4B3D-AF6E-98AC7FD2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C6785-00DB-4BD6-9B2B-73BD1642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EA2D6-C501-4DF6-9A2D-55A122F0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42164-5D6F-46DB-89CD-8EB5FA5A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766A2-7866-49CF-87FB-546E2172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3EDDE-ECCE-4027-B707-A60FE3C1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03282-B3EB-4697-AF03-2DF120E4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1AD14-AF81-4FC1-AC47-A1F18CA4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24F86-B08F-496A-BC4B-720371E80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B9E0F-D542-4351-9081-01A2911C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D77DD-B0A2-4FF8-992D-5E2B032B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854CE-19E3-4A28-8944-5D1A571C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8D3D2-B897-4BCA-ACBF-17894C7F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16ACB-AE5B-4C24-9774-8A5469E4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8C917-D568-419D-A0B0-7A180E1F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D09D5-4F55-43C0-A99F-7C4341E8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CC370-CDE2-4832-B1FB-2E568D9E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A41AF-7290-400E-8964-F0FD0A93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7F1C9-F4B1-4674-A144-D9BBEEBE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2EDA9-6935-4DBB-9242-D8CB2EEF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11E4D-D56A-4C82-BAD2-F136211D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4D3BB-9CDB-4496-95A4-1696FB88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DF0E5-E238-448C-9D2A-455E1787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CCDB09-4E5B-423A-B917-3FB6336D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6CBDD-2D0D-4EED-BE4A-C5F8C5A2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7DA93-DB57-4CFC-B185-5F202FE1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F7100-D2C1-49EF-9210-2CDB1E94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9188E-8FCD-45CE-AAEB-83AB0FEB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84F1C-2E66-48E6-9D78-0FD53BB9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6A1F5-C775-45A3-BBE3-CA33EA2B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A4A7B-0732-400F-BA32-98E9D7DB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CB5F4-CC72-4FEF-B935-90082503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18139-B9F5-4FAD-9BFA-37909DDF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D8803-DB9A-46F8-B42F-3720A34B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DC471-F300-4ACA-8FE8-A2E1EA9CC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35DF2-E3E7-4AAC-A546-99119806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A4C1A0-500E-45F3-B9F1-ED9046A8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24C03A-1098-4176-BC23-44DB4757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47E7BC-D888-4CC8-A70F-09EF922F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CDA70A-36D3-4A12-B7D4-306DD238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98BCAA-7986-414A-B967-E12C3F40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3EA954-5675-4669-A736-DF7DE340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591EE6-2F27-4538-B510-97B37415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74EF5-C6BA-4B06-9ED9-5D564C73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1557D-1B58-46FD-8920-499430E8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7B6842-3BB8-4FE4-8333-E28C1CFF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7C9DBD-4A5A-4A31-AE24-0DF9D3CB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A12863-2D3F-4C83-9139-CE21959A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C0EA48-5B50-48BA-AD2D-FAC368EF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C5D852-D308-41B6-BCB3-36BD8B09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057DA0-EE4B-4795-A486-CAD1C673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7B7301-189C-4FBE-A889-6BC0E096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5EAF78-8CE3-4410-8FD5-BB7A41DA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2D42D2-C522-4FC5-BF9D-AFECFD3D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3AEA60-C91B-4ED9-9EE0-4A08D973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F1FBB-3D6B-4F19-BFC0-7E75C49F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8D29DA-5272-49FD-B821-73FBE471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432780-7778-4306-900F-02FDDF9D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420506-E311-4094-A182-F890CE44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E8D847-33AD-4294-B33E-858B697E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2D1131-7584-4CBE-BD8E-1A90FA4C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A2A4EE-925E-4214-B702-5B2A6E96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8364E9-DE70-457E-8D74-8A1CD4C3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385D7E-D3FC-4559-9554-AE756125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35B8A9-DAEE-4F12-8040-F9EA3223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7B192D-D615-4F86-BE9C-810E3853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CBA55-4801-4410-9DF8-581A5A6C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14C2D7-0A45-4904-9D6C-D528C72D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B4A896-4B58-4353-AC86-3188D6C9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CCF0E4-FECC-4E69-AFE4-B0639144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084494-33FB-47CA-B802-1F2B74FE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157073-64EC-4268-AC00-799DFB5A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E99363-B72B-482B-AC15-BD3AC0CB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20F37D-3748-4DB7-A7EB-20F6A600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36338A-60B7-4BC6-A0E3-071E6541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D882FA-56B5-4BA7-8725-A2873A43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C33AC4-B6DB-42D5-9EEC-71F8A10D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83428-E553-477E-9EF8-3B3992EB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ABE7E8-21DC-4EB0-97C5-6804A7B2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A3F892-FD76-4C63-999A-086B0C86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4A7CCC-AC20-43EE-AA2C-5B454598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DB5BEA-5B64-43DE-9E1A-FB2A3322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D615BC-0379-46E8-BAA0-8489BB1F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BAC853-6777-4AE7-9C4C-E7F60EA7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74E265-58D8-48C8-B143-8A2F94D7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33B1D2-AD6B-4797-9E9A-242657FE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C61ADB-A4EA-4482-845A-E25A7CF7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C13335-B37E-465B-815C-4A40D128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E33F3-3DD9-4B50-A6AF-FE5BBC51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9CA77C-3952-465D-8F25-14BE2BA8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A9A8DD-EF46-4866-9028-74FF13B80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565C6E-EF45-4E14-B2F9-10BAD2D6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ABF1EB-0825-4781-B34E-1B24C54B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81A664-C3F6-476D-B87D-7B0D99C9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A345A7-CF7D-439C-9C0C-A15F741B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23EB7B-0A03-46A8-A3A9-85016DD6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528122-10B7-4EC9-8108-A1F3BE57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A109EC-6601-452A-BFB8-0ACE4AB5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B11B6F-E59D-4E2A-939B-9E51AAD5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10EAFA-A78A-4EE4-8DE4-EC522C48D4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3A271B-B6C6-4E17-9259-DC57DA46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DC13A1-8F31-4A96-8A47-3803C1FD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76A092-0A23-4F8C-9041-FB8F3DC8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D0F71E-A658-40DF-95AC-2A37A3B1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4AB326-D1B7-472B-AB8B-637C7CE7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764F27-40E9-4A5C-B3C7-AC636E3D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54C6C8-3B11-4F90-8239-901275C9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D41E74-E5B7-4D07-B71D-1F02B820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0F8506-F238-4EBC-95EA-5C76DC1B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94A67F-5230-436D-9B4F-49EE09D5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873A1B-C5B0-4339-8102-EB5C2197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B32BED-3418-4D6F-9242-A51740D1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0331FC-D2FC-4E40-9BF9-023DBDDF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5F91FE-5A2F-4769-BE86-B2408267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99FA76-774D-4CDB-A22A-9A63CD6E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C098C7-8A8E-4F3B-BEFF-6342FEB2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B129DF-7D96-4418-B03D-C7204AAE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4FA399-687E-421D-A8AC-BB8ED913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7480B8-A874-472A-A57B-2F640666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0CD3BA-224D-4A09-B5AF-32E9DDE9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9C2F92-662C-4978-844F-2519314C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8B62E9-CA2D-4BCE-8FB5-145EEFDC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E66FEE-FD82-4E66-B546-7F3626D1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3E101A-4B97-4DDA-980B-6C3A01F2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8B81F4-1BD5-45E0-B516-79D1EEB0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C5A808-0705-465A-BF06-D1FA1CC1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104BFB-E2A2-4E97-ABE5-C97A49A2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46430F-548B-4097-A8CF-ED0EA241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4944B5-AC0F-4B76-8652-BBEE70E5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0DBA99-3C66-4348-B6D6-EF5AD90A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62AC7F-42F8-4F08-83AE-3EDD5588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178A76-719A-4DFA-9953-080E6BE6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805F5F-E10A-4E84-B3BC-75B22EFC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57892E-6E37-4444-B1E8-D3F959B4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7ED765-E687-4D23-9E16-6B682081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7BED84-4B48-4F18-AB7F-14B3A3FD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847028-B257-4360-9719-3F6944C2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C9EE64-BEDB-4B29-AB7F-0CDBD0E9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F717AB-E8B6-458B-B44C-E425579E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C7EC0B-D6BB-48BF-BF83-2BF0FFAE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156AA9-B35A-405C-95E2-E485AE5A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0B2B41-87EB-475F-9743-83BD79D3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6143F4-C1A8-4EBC-B629-F6F33238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04A94-D61D-43FB-8639-065A8A87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02FC06-6B6D-48BD-8785-EBD32255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1408B9-231E-4032-9A6C-8678BB59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1EAC49-D1B3-46F5-B109-ED07F083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AAA007-EF60-463C-A6B6-831CD50B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11EA9C-F4AD-4887-B0C3-44D91C03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196AEB-1216-42F2-ACD9-831D2857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15FF1E-7E8C-4EE2-8A92-AB0258CE57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26461-D16A-4168-BDF7-238EDBE6A1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C226A-4FAB-40D4-9F64-A403A00B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DCD16-579D-44BC-905D-364E3252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0C60E-120D-4097-BE0C-49B0EABE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CCEB1-3C7F-4D87-9541-E6F8872B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61CF1-2013-40CE-8799-0C877765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CF863-1257-49A7-ACF0-5E4BD7B9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F73E3-2096-4C3A-8964-DDFF29F3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D2F0C-E4CE-4293-A015-8F82817F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26F38-C41A-4A78-BC75-073B7417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57F6C-D8D8-458C-98A4-33685760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3EA02-8870-4E9B-97F0-FBECC236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B074E-2B2A-4678-9730-C0C70182A7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527E90-A304-43AE-8429-7294236948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E14B4-1F90-4CE8-9C09-647B71D0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08C4FD-B47C-4981-BE9D-29E65F7B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7F2919-335D-42A4-A55A-1E03F89B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A74AB8-0703-42A8-B7B0-B12C0298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39CF39-DB5A-40A3-9ECC-C647B406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CD23D4-B04E-4B42-9415-386ACA4F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96CAFD-BDD2-4022-BC00-836835B8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3300B4-051D-499D-9833-83618D6E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96DF12-21B0-4556-8C8B-119DB4ED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6AB8D2-AB3F-4F84-AF32-5DA0FEC1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EB20E3-F7C2-40B8-AB10-3D0ADE1F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1E026-4755-44B4-88DB-F338EB1C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DDC629-5375-4C0F-B0C8-523F80014F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77509D-E27A-4B5B-A5A5-A6473DF02C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25FC51-CBE2-44CB-888D-3DFC16A9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E51407-6F29-4FFA-A6C9-FFEA6D57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42CD3F-DC55-4D32-B474-A5FE1991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44D42B-3856-4766-8673-58B4C67F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9CDDC0-2EB1-48B0-8229-BB444647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E51492-A15D-488A-9346-A91DCA09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AA92AF-FED6-4A32-BC37-E4901B3F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219C9C-8B19-4F06-9744-7F40DAF3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AA746-1624-4654-AD73-ECFA6A6A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DB5B46-B26C-486D-8CA1-FDA77122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BA9E68-E4D1-47E8-93F7-BDEE4347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E3C40D-B354-43CE-8BAB-B054FC2E73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D9774-822B-47B1-86C8-4A28D7B05D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E01A1-3D00-4549-AC8D-259CFED1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DB537-4E8D-4CAE-911C-174FE36E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816B9-B7D6-4764-9E3D-800A0095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B046B-AF55-47DD-8864-1CF64D26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23C54-5A7A-44AE-9FDC-FCEC13AD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04047-D559-4EC7-84D3-505EF7D0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61714-F5F8-4F80-A05C-DE14980B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C9384-7769-431E-BD0C-E900CCD2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E3775-E661-4AE0-8DBA-EBA63F06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B2BFF-9F79-4FA9-B266-306187B8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6EC71-6CE3-4E38-BE71-B5BC0C2F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6A5F5-FA47-4AFA-A79E-437F2C6ED9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BAE04E-7A69-4E00-A152-E8CD6B27E7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77DD2C-544E-46D7-BA3B-6D089638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E2B946-3C3A-419C-A6B6-DAC5FDF7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6447EB-482E-4065-BEC6-6CBA6059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862350-45AB-4252-A16D-D6F76B0F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92BB5-9E3D-4A05-9C5F-D6C95DD9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F1A2F6-A1B4-4BCF-A45F-E2E511EE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A803EE-EAC9-4092-ADDE-FF740240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B8FABA-EEFA-4E44-B77A-9EAD72AF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5DD032-D15C-42B4-82A8-4A44BF7D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8CD5B4-B271-4AFF-9586-478F40ED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C6506A-B110-4743-B31F-04C0530B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F98650-3058-4FA3-9C08-C1AF859A84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522AE5-FEEA-4E55-AE8C-9A469E2D67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BC3A0F-93AD-4800-B0FD-F0533A59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BFBE2D-ED4F-43FA-BDD6-9A1D5617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4ACF-89AF-4ADB-84FF-8021E3DFB65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8518-7EAF-4804-93D4-7D850A9E4AC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2C70-DA5D-4C8C-AB2B-B1ED000B66C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135A-CA0B-4173-9CBF-A2E1B926A7F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8FAE-496B-40C3-8330-5AFC980C589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DEF2-5589-494B-AE38-9719BB10B02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63F0-EB21-48A1-8531-5CD6D19D783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A44E-AFE4-4BFA-ABC2-311C6AC3AFE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4389-6E65-4C4C-89B3-D84AB202559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B4C5-6C58-4201-BF93-FB6959D90F9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8D9D-CC25-4365-BE4E-566EBA2366A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2349-F0B0-4460-9EB8-8A13EBB3ECF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6A2D-196E-4CD6-8083-AC85140BEF3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D68E-F71E-4AA8-84A2-0C19F60BD91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CE89-FAC7-41F2-B6FD-8313FC9951B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72AE-DBAA-4C9B-B9E4-8E1AA88F4EA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BB5A-19FF-4392-B146-6476A488385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ED9E-2548-4595-9DD6-0F571163177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DB9C-866B-4E33-8FD9-7002C52A4F1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7FA6-A3DA-4A4A-B7F1-2684226B20D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BC4C-CBBC-47F8-8129-669C2DE6520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FD67-D481-47A4-A442-05903C9ECD1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2573-F591-42C1-A56D-70FC3385751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6CD8-CF73-411B-94C0-52C91E00A03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tif"/><Relationship Id="rId2" Type="http://schemas.openxmlformats.org/officeDocument/2006/relationships/image" Target="../media/image10.ti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8.gif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3032280" y="2703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角 的 分 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929120" cy="360"/>
            <a:chOff x="2284560" y="2448000"/>
            <a:chExt cx="492912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92912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929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171440" y="1744560"/>
            <a:ext cx="748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角的度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Rectangle 21"/>
          <p:cNvSpPr/>
          <p:nvPr/>
        </p:nvSpPr>
        <p:spPr>
          <a:xfrm>
            <a:off x="395280" y="117360"/>
            <a:ext cx="310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创设情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3"/>
          <p:cNvSpPr/>
          <p:nvPr/>
        </p:nvSpPr>
        <p:spPr>
          <a:xfrm>
            <a:off x="357120" y="928800"/>
            <a:ext cx="87868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量出下面每个角的度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Group 63"/>
          <p:cNvGrpSpPr/>
          <p:nvPr/>
        </p:nvGrpSpPr>
        <p:grpSpPr>
          <a:xfrm>
            <a:off x="786960" y="1714320"/>
            <a:ext cx="7928640" cy="1142640"/>
            <a:chOff x="786960" y="1714320"/>
            <a:chExt cx="7928640" cy="1142640"/>
          </a:xfrm>
        </p:grpSpPr>
        <p:grpSp>
          <p:nvGrpSpPr>
            <p:cNvPr id="1012" name="Group 62"/>
            <p:cNvGrpSpPr/>
            <p:nvPr/>
          </p:nvGrpSpPr>
          <p:grpSpPr>
            <a:xfrm>
              <a:off x="2410200" y="2071440"/>
              <a:ext cx="1375920" cy="755640"/>
              <a:chOff x="2410200" y="2071440"/>
              <a:chExt cx="1375920" cy="755640"/>
            </a:xfrm>
          </p:grpSpPr>
          <p:grpSp>
            <p:nvGrpSpPr>
              <p:cNvPr id="1013" name=""/>
              <p:cNvGrpSpPr/>
              <p:nvPr/>
            </p:nvGrpSpPr>
            <p:grpSpPr>
              <a:xfrm>
                <a:off x="2410200" y="2826720"/>
                <a:ext cx="1375920" cy="360"/>
                <a:chOff x="2410200" y="2826720"/>
                <a:chExt cx="1375920" cy="360"/>
              </a:xfrm>
            </p:grpSpPr>
            <p:sp>
              <p:nvSpPr>
                <p:cNvPr id="1014" name="Line 13"/>
                <p:cNvSpPr/>
                <p:nvPr/>
              </p:nvSpPr>
              <p:spPr>
                <a:xfrm>
                  <a:off x="2410200" y="2826720"/>
                  <a:ext cx="1375920" cy="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 txBox="1"/>
                <p:nvPr/>
              </p:nvSpPr>
              <p:spPr>
                <a:xfrm>
                  <a:off x="2410200" y="2826720"/>
                  <a:ext cx="1375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6" name=""/>
              <p:cNvGrpSpPr/>
              <p:nvPr/>
            </p:nvGrpSpPr>
            <p:grpSpPr>
              <a:xfrm>
                <a:off x="2410200" y="2071440"/>
                <a:ext cx="804960" cy="755280"/>
                <a:chOff x="2410200" y="2071440"/>
                <a:chExt cx="804960" cy="755280"/>
              </a:xfrm>
            </p:grpSpPr>
            <p:sp>
              <p:nvSpPr>
                <p:cNvPr id="1017" name="Line 14"/>
                <p:cNvSpPr/>
                <p:nvPr/>
              </p:nvSpPr>
              <p:spPr>
                <a:xfrm flipV="1">
                  <a:off x="2410200" y="2071440"/>
                  <a:ext cx="804960" cy="75528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 txBox="1"/>
                <p:nvPr/>
              </p:nvSpPr>
              <p:spPr>
                <a:xfrm rot="10800000">
                  <a:off x="2410200" y="2071440"/>
                  <a:ext cx="804960" cy="75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9" name="Group 23"/>
            <p:cNvGrpSpPr/>
            <p:nvPr/>
          </p:nvGrpSpPr>
          <p:grpSpPr>
            <a:xfrm>
              <a:off x="786960" y="1714320"/>
              <a:ext cx="1142640" cy="1142640"/>
              <a:chOff x="786960" y="1714320"/>
              <a:chExt cx="1142640" cy="1142640"/>
            </a:xfrm>
          </p:grpSpPr>
          <p:grpSp>
            <p:nvGrpSpPr>
              <p:cNvPr id="1020" name=""/>
              <p:cNvGrpSpPr/>
              <p:nvPr/>
            </p:nvGrpSpPr>
            <p:grpSpPr>
              <a:xfrm>
                <a:off x="787320" y="2826720"/>
                <a:ext cx="1142280" cy="30240"/>
                <a:chOff x="787320" y="2826720"/>
                <a:chExt cx="1142280" cy="30240"/>
              </a:xfrm>
            </p:grpSpPr>
            <p:sp>
              <p:nvSpPr>
                <p:cNvPr id="1021" name="Line 17"/>
                <p:cNvSpPr/>
                <p:nvPr/>
              </p:nvSpPr>
              <p:spPr>
                <a:xfrm>
                  <a:off x="787320" y="2826720"/>
                  <a:ext cx="1142280" cy="3024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 txBox="1"/>
                <p:nvPr/>
              </p:nvSpPr>
              <p:spPr>
                <a:xfrm>
                  <a:off x="787320" y="2826720"/>
                  <a:ext cx="1142280" cy="3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786960" y="1714320"/>
                <a:ext cx="360" cy="1112040"/>
                <a:chOff x="786960" y="1714320"/>
                <a:chExt cx="360" cy="1112040"/>
              </a:xfrm>
            </p:grpSpPr>
            <p:sp>
              <p:nvSpPr>
                <p:cNvPr id="1024" name="Line 18"/>
                <p:cNvSpPr/>
                <p:nvPr/>
              </p:nvSpPr>
              <p:spPr>
                <a:xfrm flipV="1">
                  <a:off x="787320" y="1714320"/>
                  <a:ext cx="0" cy="111204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 txBox="1"/>
                <p:nvPr/>
              </p:nvSpPr>
              <p:spPr>
                <a:xfrm rot="10800000">
                  <a:off x="786960" y="1714320"/>
                  <a:ext cx="360" cy="111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6" name="Group 58"/>
            <p:cNvGrpSpPr/>
            <p:nvPr/>
          </p:nvGrpSpPr>
          <p:grpSpPr>
            <a:xfrm>
              <a:off x="5644080" y="2356200"/>
              <a:ext cx="1129680" cy="441720"/>
              <a:chOff x="5644080" y="2356200"/>
              <a:chExt cx="1129680" cy="441720"/>
            </a:xfrm>
          </p:grpSpPr>
          <p:grpSp>
            <p:nvGrpSpPr>
              <p:cNvPr id="1027" name=""/>
              <p:cNvGrpSpPr/>
              <p:nvPr/>
            </p:nvGrpSpPr>
            <p:grpSpPr>
              <a:xfrm>
                <a:off x="5856840" y="2356200"/>
                <a:ext cx="916560" cy="439560"/>
                <a:chOff x="5856840" y="2356200"/>
                <a:chExt cx="916560" cy="439560"/>
              </a:xfrm>
            </p:grpSpPr>
            <p:sp>
              <p:nvSpPr>
                <p:cNvPr id="1028" name="Line 20"/>
                <p:cNvSpPr/>
                <p:nvPr/>
              </p:nvSpPr>
              <p:spPr>
                <a:xfrm flipH="1" flipV="1">
                  <a:off x="5856840" y="2356200"/>
                  <a:ext cx="916560" cy="43956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 txBox="1"/>
                <p:nvPr/>
              </p:nvSpPr>
              <p:spPr>
                <a:xfrm rot="10800000">
                  <a:off x="5856840" y="2356200"/>
                  <a:ext cx="916560" cy="43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"/>
              <p:cNvGrpSpPr/>
              <p:nvPr/>
            </p:nvGrpSpPr>
            <p:grpSpPr>
              <a:xfrm>
                <a:off x="5644080" y="2784960"/>
                <a:ext cx="1129680" cy="12960"/>
                <a:chOff x="5644080" y="2784960"/>
                <a:chExt cx="1129680" cy="12960"/>
              </a:xfrm>
            </p:grpSpPr>
            <p:sp>
              <p:nvSpPr>
                <p:cNvPr id="1031" name="Line 21"/>
                <p:cNvSpPr/>
                <p:nvPr/>
              </p:nvSpPr>
              <p:spPr>
                <a:xfrm flipH="1" flipV="1">
                  <a:off x="5644080" y="2784960"/>
                  <a:ext cx="1129680" cy="1296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 txBox="1"/>
                <p:nvPr/>
              </p:nvSpPr>
              <p:spPr>
                <a:xfrm rot="10800000">
                  <a:off x="5644080" y="2784960"/>
                  <a:ext cx="1129680" cy="1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3" name="Group 45"/>
            <p:cNvGrpSpPr/>
            <p:nvPr/>
          </p:nvGrpSpPr>
          <p:grpSpPr>
            <a:xfrm>
              <a:off x="7215480" y="1927440"/>
              <a:ext cx="1500120" cy="857520"/>
              <a:chOff x="7215480" y="1927440"/>
              <a:chExt cx="1500120" cy="857520"/>
            </a:xfrm>
          </p:grpSpPr>
          <p:grpSp>
            <p:nvGrpSpPr>
              <p:cNvPr id="1034" name=""/>
              <p:cNvGrpSpPr/>
              <p:nvPr/>
            </p:nvGrpSpPr>
            <p:grpSpPr>
              <a:xfrm>
                <a:off x="7677000" y="2756880"/>
                <a:ext cx="1038600" cy="28080"/>
                <a:chOff x="7677000" y="2756880"/>
                <a:chExt cx="1038600" cy="28080"/>
              </a:xfrm>
            </p:grpSpPr>
            <p:sp>
              <p:nvSpPr>
                <p:cNvPr id="1035" name="Line 39"/>
                <p:cNvSpPr/>
                <p:nvPr/>
              </p:nvSpPr>
              <p:spPr>
                <a:xfrm>
                  <a:off x="7677000" y="2756880"/>
                  <a:ext cx="1038600" cy="2808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 txBox="1"/>
                <p:nvPr/>
              </p:nvSpPr>
              <p:spPr>
                <a:xfrm>
                  <a:off x="7677000" y="2756880"/>
                  <a:ext cx="1038600" cy="2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8720" bIns="-18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7" name=""/>
              <p:cNvGrpSpPr/>
              <p:nvPr/>
            </p:nvGrpSpPr>
            <p:grpSpPr>
              <a:xfrm>
                <a:off x="7215480" y="1927440"/>
                <a:ext cx="461520" cy="826920"/>
                <a:chOff x="7215480" y="1927440"/>
                <a:chExt cx="461520" cy="826920"/>
              </a:xfrm>
            </p:grpSpPr>
            <p:sp>
              <p:nvSpPr>
                <p:cNvPr id="1038" name="Line 40"/>
                <p:cNvSpPr/>
                <p:nvPr/>
              </p:nvSpPr>
              <p:spPr>
                <a:xfrm flipH="1" flipV="1">
                  <a:off x="7215480" y="1927440"/>
                  <a:ext cx="461520" cy="82692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 txBox="1"/>
                <p:nvPr/>
              </p:nvSpPr>
              <p:spPr>
                <a:xfrm rot="10800000">
                  <a:off x="7215480" y="1927440"/>
                  <a:ext cx="461520" cy="82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0" name="Group 60"/>
            <p:cNvGrpSpPr/>
            <p:nvPr/>
          </p:nvGrpSpPr>
          <p:grpSpPr>
            <a:xfrm>
              <a:off x="4081680" y="2010960"/>
              <a:ext cx="1345680" cy="773640"/>
              <a:chOff x="4081680" y="2010960"/>
              <a:chExt cx="1345680" cy="773640"/>
            </a:xfrm>
          </p:grpSpPr>
          <p:grpSp>
            <p:nvGrpSpPr>
              <p:cNvPr id="1041" name=""/>
              <p:cNvGrpSpPr/>
              <p:nvPr/>
            </p:nvGrpSpPr>
            <p:grpSpPr>
              <a:xfrm>
                <a:off x="4081680" y="2771640"/>
                <a:ext cx="1029600" cy="12960"/>
                <a:chOff x="4081680" y="2771640"/>
                <a:chExt cx="1029600" cy="12960"/>
              </a:xfrm>
            </p:grpSpPr>
            <p:sp>
              <p:nvSpPr>
                <p:cNvPr id="1042" name="Line 42"/>
                <p:cNvSpPr/>
                <p:nvPr/>
              </p:nvSpPr>
              <p:spPr>
                <a:xfrm>
                  <a:off x="4081680" y="2771640"/>
                  <a:ext cx="1029600" cy="1296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 txBox="1"/>
                <p:nvPr/>
              </p:nvSpPr>
              <p:spPr>
                <a:xfrm>
                  <a:off x="4081680" y="2771640"/>
                  <a:ext cx="1029600" cy="1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5111280" y="2010960"/>
                <a:ext cx="316080" cy="772560"/>
                <a:chOff x="5111280" y="2010960"/>
                <a:chExt cx="316080" cy="772560"/>
              </a:xfrm>
            </p:grpSpPr>
            <p:sp>
              <p:nvSpPr>
                <p:cNvPr id="1045" name="Line 43"/>
                <p:cNvSpPr/>
                <p:nvPr/>
              </p:nvSpPr>
              <p:spPr>
                <a:xfrm flipV="1">
                  <a:off x="5111280" y="2010960"/>
                  <a:ext cx="316080" cy="77256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 txBox="1"/>
                <p:nvPr/>
              </p:nvSpPr>
              <p:spPr>
                <a:xfrm rot="10800000">
                  <a:off x="5111280" y="2010960"/>
                  <a:ext cx="316080" cy="77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47" name="TextBox 3"/>
          <p:cNvSpPr/>
          <p:nvPr/>
        </p:nvSpPr>
        <p:spPr>
          <a:xfrm>
            <a:off x="357120" y="3214800"/>
            <a:ext cx="87868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角的大小是由什么决定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Box 3"/>
          <p:cNvSpPr/>
          <p:nvPr/>
        </p:nvSpPr>
        <p:spPr>
          <a:xfrm>
            <a:off x="509760" y="3929040"/>
            <a:ext cx="8786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角的大小是由角的两边张开的大小决定的，与角两边的长短没有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Box 3"/>
          <p:cNvSpPr/>
          <p:nvPr/>
        </p:nvSpPr>
        <p:spPr>
          <a:xfrm>
            <a:off x="285840" y="5286240"/>
            <a:ext cx="87868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如果将角按大小进行分类，上面的这些角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样分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51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2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53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4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5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1" name="Rectangle 21"/>
          <p:cNvSpPr/>
          <p:nvPr/>
        </p:nvSpPr>
        <p:spPr>
          <a:xfrm>
            <a:off x="538200" y="117360"/>
            <a:ext cx="310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自主探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3"/>
          <p:cNvSpPr/>
          <p:nvPr/>
        </p:nvSpPr>
        <p:spPr>
          <a:xfrm>
            <a:off x="1015920" y="1052640"/>
            <a:ext cx="150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认识直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4"/>
          <p:cNvSpPr/>
          <p:nvPr/>
        </p:nvSpPr>
        <p:spPr>
          <a:xfrm>
            <a:off x="4550400" y="1628640"/>
            <a:ext cx="93348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用一张长方形的纸先横着对折，再竖着对折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5"/>
          <p:cNvSpPr/>
          <p:nvPr/>
        </p:nvSpPr>
        <p:spPr>
          <a:xfrm>
            <a:off x="4549680" y="2711520"/>
            <a:ext cx="93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折出的角是什么角？量一量这个角是多少度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6"/>
          <p:cNvSpPr/>
          <p:nvPr/>
        </p:nvSpPr>
        <p:spPr>
          <a:xfrm>
            <a:off x="2671560" y="3933720"/>
            <a:ext cx="103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90°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的角叫做直角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TextBox 6"/>
          <p:cNvSpPr/>
          <p:nvPr/>
        </p:nvSpPr>
        <p:spPr>
          <a:xfrm>
            <a:off x="3500280" y="4500720"/>
            <a:ext cx="428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大于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90°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而小于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80 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的角叫做钝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Box 5"/>
          <p:cNvSpPr/>
          <p:nvPr/>
        </p:nvSpPr>
        <p:spPr>
          <a:xfrm>
            <a:off x="3429000" y="1928880"/>
            <a:ext cx="4714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小于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90°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的角叫做锐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Picture 5" descr="MRSJA15"/>
          <p:cNvPicPr/>
          <p:nvPr/>
        </p:nvPicPr>
        <p:blipFill>
          <a:blip r:embed="rId1"/>
          <a:stretch/>
        </p:blipFill>
        <p:spPr>
          <a:xfrm>
            <a:off x="1260360" y="1413000"/>
            <a:ext cx="1665360" cy="15253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6" descr="MRSJA15A"/>
          <p:cNvPicPr/>
          <p:nvPr/>
        </p:nvPicPr>
        <p:blipFill>
          <a:blip r:embed="rId2"/>
          <a:stretch/>
        </p:blipFill>
        <p:spPr>
          <a:xfrm>
            <a:off x="611280" y="3860640"/>
            <a:ext cx="2676600" cy="1446480"/>
          </a:xfrm>
          <a:prstGeom prst="rect">
            <a:avLst/>
          </a:prstGeom>
          <a:ln w="0">
            <a:noFill/>
          </a:ln>
        </p:spPr>
      </p:pic>
      <p:grpSp>
        <p:nvGrpSpPr>
          <p:cNvPr id="1070" name="组合 2"/>
          <p:cNvGrpSpPr/>
          <p:nvPr/>
        </p:nvGrpSpPr>
        <p:grpSpPr>
          <a:xfrm>
            <a:off x="0" y="101520"/>
            <a:ext cx="3728880" cy="525600"/>
            <a:chOff x="0" y="101520"/>
            <a:chExt cx="3728880" cy="525600"/>
          </a:xfrm>
        </p:grpSpPr>
        <p:pic>
          <p:nvPicPr>
            <p:cNvPr id="1071" name="圆角矩形 5" descr=""/>
            <p:cNvPicPr/>
            <p:nvPr/>
          </p:nvPicPr>
          <p:blipFill>
            <a:blip r:embed="rId3"/>
            <a:stretch/>
          </p:blipFill>
          <p:spPr>
            <a:xfrm>
              <a:off x="177120" y="101520"/>
              <a:ext cx="35517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2" name="组合 4"/>
            <p:cNvGrpSpPr/>
            <p:nvPr/>
          </p:nvGrpSpPr>
          <p:grpSpPr>
            <a:xfrm>
              <a:off x="0" y="196560"/>
              <a:ext cx="495720" cy="273600"/>
              <a:chOff x="0" y="196560"/>
              <a:chExt cx="495720" cy="273600"/>
            </a:xfrm>
          </p:grpSpPr>
          <p:sp>
            <p:nvSpPr>
              <p:cNvPr id="1073" name="椭圆 11"/>
              <p:cNvSpPr/>
              <p:nvPr/>
            </p:nvSpPr>
            <p:spPr>
              <a:xfrm rot="16200000">
                <a:off x="254520" y="357120"/>
                <a:ext cx="101160" cy="12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4" name="椭圆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74680" y="309960"/>
                <a:ext cx="221040" cy="10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椭圆 29"/>
              <p:cNvSpPr/>
              <p:nvPr/>
            </p:nvSpPr>
            <p:spPr>
              <a:xfrm rot="16200000">
                <a:off x="254520" y="227160"/>
                <a:ext cx="101160" cy="124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6" name="椭圆 30" descr=""/>
              <p:cNvPicPr/>
              <p:nvPr/>
            </p:nvPicPr>
            <p:blipFill>
              <a:blip r:embed="rId5"/>
              <a:stretch/>
            </p:blipFill>
            <p:spPr>
              <a:xfrm>
                <a:off x="274680" y="209520"/>
                <a:ext cx="221040" cy="10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7" name="圆角矩形 3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24360"/>
                <a:ext cx="420120" cy="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8" name="圆角矩形 3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99160"/>
                <a:ext cx="420120" cy="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9" name="圆角矩形 33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221400"/>
                <a:ext cx="420120" cy="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0" name="圆角矩形 34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196560"/>
                <a:ext cx="420120" cy="88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1" name="Text Box 4"/>
          <p:cNvSpPr/>
          <p:nvPr/>
        </p:nvSpPr>
        <p:spPr>
          <a:xfrm>
            <a:off x="958680" y="119160"/>
            <a:ext cx="218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2.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认识锐角和钝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8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4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85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6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3" name="Text Box 2"/>
          <p:cNvSpPr/>
          <p:nvPr/>
        </p:nvSpPr>
        <p:spPr>
          <a:xfrm>
            <a:off x="873000" y="120600"/>
            <a:ext cx="150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3.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认识平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2911320" y="3152880"/>
            <a:ext cx="1905120" cy="360"/>
            <a:chOff x="2911320" y="3152880"/>
            <a:chExt cx="1905120" cy="360"/>
          </a:xfrm>
        </p:grpSpPr>
        <p:sp>
          <p:nvSpPr>
            <p:cNvPr id="1095" name="Line 2"/>
            <p:cNvSpPr/>
            <p:nvPr/>
          </p:nvSpPr>
          <p:spPr>
            <a:xfrm>
              <a:off x="2911320" y="3152880"/>
              <a:ext cx="1905120" cy="0"/>
            </a:xfrm>
            <a:prstGeom prst="line">
              <a:avLst/>
            </a:prstGeom>
            <a:ln w="38160">
              <a:solidFill>
                <a:srgbClr val="d9d8e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 txBox="1"/>
            <p:nvPr/>
          </p:nvSpPr>
          <p:spPr>
            <a:xfrm>
              <a:off x="2911320" y="3152880"/>
              <a:ext cx="1905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2910960" y="1476000"/>
            <a:ext cx="360" cy="1676520"/>
            <a:chOff x="2910960" y="1476000"/>
            <a:chExt cx="360" cy="1676520"/>
          </a:xfrm>
        </p:grpSpPr>
        <p:sp>
          <p:nvSpPr>
            <p:cNvPr id="1098" name="Line 13"/>
            <p:cNvSpPr/>
            <p:nvPr/>
          </p:nvSpPr>
          <p:spPr>
            <a:xfrm flipV="1">
              <a:off x="2911320" y="1476000"/>
              <a:ext cx="0" cy="1676520"/>
            </a:xfrm>
            <a:prstGeom prst="line">
              <a:avLst/>
            </a:prstGeom>
            <a:ln w="38160">
              <a:solidFill>
                <a:srgbClr val="d9d8e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 txBox="1"/>
            <p:nvPr/>
          </p:nvSpPr>
          <p:spPr>
            <a:xfrm rot="10800000">
              <a:off x="2910960" y="1476000"/>
              <a:ext cx="360" cy="16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1841400" y="1781280"/>
            <a:ext cx="1067040" cy="1371600"/>
            <a:chOff x="1841400" y="1781280"/>
            <a:chExt cx="1067040" cy="1371600"/>
          </a:xfrm>
        </p:grpSpPr>
        <p:sp>
          <p:nvSpPr>
            <p:cNvPr id="1101" name="Line 19"/>
            <p:cNvSpPr/>
            <p:nvPr/>
          </p:nvSpPr>
          <p:spPr>
            <a:xfrm flipH="1" flipV="1">
              <a:off x="1841400" y="1781280"/>
              <a:ext cx="1067040" cy="1371600"/>
            </a:xfrm>
            <a:prstGeom prst="line">
              <a:avLst/>
            </a:prstGeom>
            <a:ln w="38160">
              <a:solidFill>
                <a:srgbClr val="d9d8e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 txBox="1"/>
            <p:nvPr/>
          </p:nvSpPr>
          <p:spPr>
            <a:xfrm rot="10800000">
              <a:off x="1841400" y="1781280"/>
              <a:ext cx="106704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1155240" y="3152520"/>
            <a:ext cx="1752840" cy="360"/>
            <a:chOff x="1155240" y="3152520"/>
            <a:chExt cx="1752840" cy="360"/>
          </a:xfrm>
        </p:grpSpPr>
        <p:sp>
          <p:nvSpPr>
            <p:cNvPr id="1104" name="Line 27"/>
            <p:cNvSpPr/>
            <p:nvPr/>
          </p:nvSpPr>
          <p:spPr>
            <a:xfrm flipH="1">
              <a:off x="1155240" y="3152880"/>
              <a:ext cx="1752840" cy="0"/>
            </a:xfrm>
            <a:prstGeom prst="line">
              <a:avLst/>
            </a:prstGeom>
            <a:ln w="38160">
              <a:solidFill>
                <a:srgbClr val="d9d8e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 txBox="1"/>
            <p:nvPr/>
          </p:nvSpPr>
          <p:spPr>
            <a:xfrm rot="10800000">
              <a:off x="1155240" y="3152520"/>
              <a:ext cx="1752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6" name="Group 9"/>
          <p:cNvGrpSpPr/>
          <p:nvPr/>
        </p:nvGrpSpPr>
        <p:grpSpPr>
          <a:xfrm>
            <a:off x="1815840" y="3571920"/>
            <a:ext cx="1567800" cy="581400"/>
            <a:chOff x="1815840" y="3571920"/>
            <a:chExt cx="1567800" cy="581400"/>
          </a:xfrm>
        </p:grpSpPr>
        <p:sp>
          <p:nvSpPr>
            <p:cNvPr id="1107" name="Text Box 10"/>
            <p:cNvSpPr/>
            <p:nvPr/>
          </p:nvSpPr>
          <p:spPr>
            <a:xfrm>
              <a:off x="1881720" y="3571920"/>
              <a:ext cx="150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直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1815840" y="3884400"/>
              <a:ext cx="719640" cy="360"/>
              <a:chOff x="1815840" y="3884400"/>
              <a:chExt cx="719640" cy="360"/>
            </a:xfrm>
          </p:grpSpPr>
          <p:sp>
            <p:nvSpPr>
              <p:cNvPr id="1109" name="箭头 532"/>
              <p:cNvSpPr/>
              <p:nvPr/>
            </p:nvSpPr>
            <p:spPr>
              <a:xfrm>
                <a:off x="1815840" y="3884400"/>
                <a:ext cx="719640" cy="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 txBox="1"/>
              <p:nvPr/>
            </p:nvSpPr>
            <p:spPr>
              <a:xfrm>
                <a:off x="1815840" y="3884400"/>
                <a:ext cx="71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1" name="Group 14"/>
          <p:cNvGrpSpPr/>
          <p:nvPr/>
        </p:nvGrpSpPr>
        <p:grpSpPr>
          <a:xfrm>
            <a:off x="3419640" y="547560"/>
            <a:ext cx="5180400" cy="2320560"/>
            <a:chOff x="3419640" y="547560"/>
            <a:chExt cx="5180400" cy="2320560"/>
          </a:xfrm>
        </p:grpSpPr>
        <p:pic>
          <p:nvPicPr>
            <p:cNvPr id="1112" name="Picture 15" descr="E:\2017秋上·黄倩\其他\人\蜜蜂.gif蜜蜂"/>
            <p:cNvPicPr/>
            <p:nvPr/>
          </p:nvPicPr>
          <p:blipFill>
            <a:blip r:embed="rId8"/>
            <a:stretch/>
          </p:blipFill>
          <p:spPr>
            <a:xfrm>
              <a:off x="7801200" y="1988280"/>
              <a:ext cx="798840" cy="87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3" name="Text Box 16"/>
            <p:cNvSpPr/>
            <p:nvPr/>
          </p:nvSpPr>
          <p:spPr>
            <a:xfrm>
              <a:off x="5517000" y="547560"/>
              <a:ext cx="992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角也可以看作是由一条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线绕着它的端点，从一个位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旋转到另一个位置所成的图形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AutoShape 17"/>
            <p:cNvSpPr/>
            <p:nvPr/>
          </p:nvSpPr>
          <p:spPr>
            <a:xfrm>
              <a:off x="3419640" y="547920"/>
              <a:ext cx="4969080" cy="1440360"/>
            </a:xfrm>
            <a:prstGeom prst="wedgeRoundRectCallout">
              <a:avLst>
                <a:gd name="adj1" fmla="val 35814"/>
                <a:gd name="adj2" fmla="val 66050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5" name="Text Box 18"/>
          <p:cNvSpPr/>
          <p:nvPr/>
        </p:nvSpPr>
        <p:spPr>
          <a:xfrm>
            <a:off x="3585240" y="4365720"/>
            <a:ext cx="1552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一条射线绕它的端点旋转半周，形成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角叫做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平角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19"/>
          <p:cNvSpPr/>
          <p:nvPr/>
        </p:nvSpPr>
        <p:spPr>
          <a:xfrm>
            <a:off x="2491200" y="5734080"/>
            <a:ext cx="2042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平角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=180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10"/>
          <p:cNvSpPr/>
          <p:nvPr/>
        </p:nvSpPr>
        <p:spPr>
          <a:xfrm>
            <a:off x="1098360" y="3571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锐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Group 9"/>
          <p:cNvGrpSpPr/>
          <p:nvPr/>
        </p:nvGrpSpPr>
        <p:grpSpPr>
          <a:xfrm>
            <a:off x="3501000" y="3571920"/>
            <a:ext cx="1832760" cy="581400"/>
            <a:chOff x="3501000" y="3571920"/>
            <a:chExt cx="1832760" cy="581400"/>
          </a:xfrm>
        </p:grpSpPr>
        <p:sp>
          <p:nvSpPr>
            <p:cNvPr id="1119" name="Text Box 10"/>
            <p:cNvSpPr/>
            <p:nvPr/>
          </p:nvSpPr>
          <p:spPr>
            <a:xfrm>
              <a:off x="3621600" y="3571920"/>
              <a:ext cx="171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钝角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3501000" y="3884400"/>
              <a:ext cx="724680" cy="360"/>
              <a:chOff x="3501000" y="3884400"/>
              <a:chExt cx="724680" cy="360"/>
            </a:xfrm>
          </p:grpSpPr>
          <p:sp>
            <p:nvSpPr>
              <p:cNvPr id="1121" name="箭头 532"/>
              <p:cNvSpPr/>
              <p:nvPr/>
            </p:nvSpPr>
            <p:spPr>
              <a:xfrm>
                <a:off x="3501000" y="3884400"/>
                <a:ext cx="724680" cy="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 txBox="1"/>
              <p:nvPr/>
            </p:nvSpPr>
            <p:spPr>
              <a:xfrm>
                <a:off x="3501000" y="3884400"/>
                <a:ext cx="724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3" name="Group 9"/>
          <p:cNvGrpSpPr/>
          <p:nvPr/>
        </p:nvGrpSpPr>
        <p:grpSpPr>
          <a:xfrm>
            <a:off x="5214960" y="3571920"/>
            <a:ext cx="1467360" cy="581400"/>
            <a:chOff x="5214960" y="3571920"/>
            <a:chExt cx="1467360" cy="581400"/>
          </a:xfrm>
        </p:grpSpPr>
        <p:sp>
          <p:nvSpPr>
            <p:cNvPr id="1124" name="Text Box 10"/>
            <p:cNvSpPr/>
            <p:nvPr/>
          </p:nvSpPr>
          <p:spPr>
            <a:xfrm>
              <a:off x="5496120" y="3571920"/>
              <a:ext cx="11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平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5214960" y="3884400"/>
              <a:ext cx="642600" cy="360"/>
              <a:chOff x="5214960" y="3884400"/>
              <a:chExt cx="642600" cy="360"/>
            </a:xfrm>
          </p:grpSpPr>
          <p:sp>
            <p:nvSpPr>
              <p:cNvPr id="1126" name="箭头 532"/>
              <p:cNvSpPr/>
              <p:nvPr/>
            </p:nvSpPr>
            <p:spPr>
              <a:xfrm>
                <a:off x="5214960" y="3884400"/>
                <a:ext cx="642600" cy="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 txBox="1"/>
              <p:nvPr/>
            </p:nvSpPr>
            <p:spPr>
              <a:xfrm>
                <a:off x="5214960" y="3884400"/>
                <a:ext cx="642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8" name="组合 3"/>
          <p:cNvGrpSpPr/>
          <p:nvPr/>
        </p:nvGrpSpPr>
        <p:grpSpPr>
          <a:xfrm>
            <a:off x="2641680" y="2238120"/>
            <a:ext cx="1793520" cy="1646280"/>
            <a:chOff x="2641680" y="2238120"/>
            <a:chExt cx="1793520" cy="1646280"/>
          </a:xfrm>
        </p:grpSpPr>
        <p:grpSp>
          <p:nvGrpSpPr>
            <p:cNvPr id="1129" name=""/>
            <p:cNvGrpSpPr/>
            <p:nvPr/>
          </p:nvGrpSpPr>
          <p:grpSpPr>
            <a:xfrm>
              <a:off x="2910240" y="2238120"/>
              <a:ext cx="1524960" cy="914040"/>
              <a:chOff x="2910240" y="2238120"/>
              <a:chExt cx="1524960" cy="914040"/>
            </a:xfrm>
          </p:grpSpPr>
          <p:sp>
            <p:nvSpPr>
              <p:cNvPr id="1130" name="Line 6"/>
              <p:cNvSpPr/>
              <p:nvPr/>
            </p:nvSpPr>
            <p:spPr>
              <a:xfrm flipV="1">
                <a:off x="2910240" y="2238120"/>
                <a:ext cx="1524960" cy="914040"/>
              </a:xfrm>
              <a:prstGeom prst="line">
                <a:avLst/>
              </a:prstGeom>
              <a:ln w="38160">
                <a:solidFill>
                  <a:srgbClr val="d9d8ec"/>
                </a:solidFill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 txBox="1"/>
              <p:nvPr/>
            </p:nvSpPr>
            <p:spPr>
              <a:xfrm rot="10800000">
                <a:off x="2910240" y="2238120"/>
                <a:ext cx="1524960" cy="914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2" name="弧形 1"/>
            <p:cNvSpPr/>
            <p:nvPr/>
          </p:nvSpPr>
          <p:spPr>
            <a:xfrm>
              <a:off x="2641680" y="2953800"/>
              <a:ext cx="674280" cy="930600"/>
            </a:xfrm>
            <a:custGeom>
              <a:avLst/>
              <a:gdLst/>
              <a:ahLst/>
              <a:rect l="l" t="t" r="r" b="b"/>
              <a:pathLst>
                <a:path stroke="0" w="1061" h="1466">
                  <a:moveTo>
                    <a:pt x="784" y="89"/>
                  </a:moveTo>
                  <a:cubicBezTo>
                    <a:pt x="863" y="149"/>
                    <a:pt x="930" y="236"/>
                    <a:pt x="978" y="342"/>
                  </a:cubicBezTo>
                  <a:lnTo>
                    <a:pt x="530" y="733"/>
                  </a:lnTo>
                  <a:close/>
                </a:path>
                <a:path fill="none" w="1061" h="1466">
                  <a:moveTo>
                    <a:pt x="784" y="89"/>
                  </a:moveTo>
                  <a:cubicBezTo>
                    <a:pt x="863" y="149"/>
                    <a:pt x="930" y="236"/>
                    <a:pt x="978" y="34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弧形 4"/>
          <p:cNvSpPr/>
          <p:nvPr/>
        </p:nvSpPr>
        <p:spPr>
          <a:xfrm>
            <a:off x="2368440" y="2708280"/>
            <a:ext cx="1051200" cy="1103400"/>
          </a:xfrm>
          <a:custGeom>
            <a:avLst/>
            <a:gdLst/>
            <a:ahLst/>
            <a:rect l="l" t="t" r="r" b="b"/>
            <a:pathLst>
              <a:path stroke="0" w="1050925" h="1103312">
                <a:moveTo>
                  <a:pt x="519367" y="37"/>
                </a:moveTo>
                <a:cubicBezTo>
                  <a:pt x="515300" y="49"/>
                  <a:pt x="517332" y="37"/>
                  <a:pt x="519367" y="37"/>
                </a:cubicBezTo>
                <a:cubicBezTo>
                  <a:pt x="780260" y="37"/>
                  <a:pt x="996745" y="199649"/>
                  <a:pt x="1037787" y="461162"/>
                </a:cubicBezTo>
                <a:lnTo>
                  <a:pt x="525462" y="551656"/>
                </a:lnTo>
                <a:close/>
              </a:path>
              <a:path fill="none" w="1050925" h="1103312">
                <a:moveTo>
                  <a:pt x="519367" y="37"/>
                </a:moveTo>
                <a:cubicBezTo>
                  <a:pt x="515300" y="49"/>
                  <a:pt x="517332" y="37"/>
                  <a:pt x="519367" y="37"/>
                </a:cubicBezTo>
                <a:cubicBezTo>
                  <a:pt x="780260" y="37"/>
                  <a:pt x="996745" y="199649"/>
                  <a:pt x="1037787" y="461162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弧形 6"/>
          <p:cNvSpPr/>
          <p:nvPr/>
        </p:nvSpPr>
        <p:spPr>
          <a:xfrm>
            <a:off x="1959120" y="2649600"/>
            <a:ext cx="1379520" cy="1006560"/>
          </a:xfrm>
          <a:custGeom>
            <a:avLst/>
            <a:gdLst/>
            <a:ahLst/>
            <a:rect l="l" t="t" r="r" b="b"/>
            <a:pathLst>
              <a:path stroke="0" w="1379537" h="1006475">
                <a:moveTo>
                  <a:pt x="568896" y="7786"/>
                </a:moveTo>
                <a:cubicBezTo>
                  <a:pt x="608059" y="2644"/>
                  <a:pt x="648490" y="-1"/>
                  <a:pt x="689768" y="-1"/>
                </a:cubicBezTo>
                <a:cubicBezTo>
                  <a:pt x="1066769" y="-1"/>
                  <a:pt x="1373128" y="220661"/>
                  <a:pt x="1379436" y="494571"/>
                </a:cubicBezTo>
                <a:lnTo>
                  <a:pt x="689768" y="503237"/>
                </a:lnTo>
                <a:close/>
              </a:path>
              <a:path fill="none" w="1379537" h="1006475">
                <a:moveTo>
                  <a:pt x="568896" y="7786"/>
                </a:moveTo>
                <a:cubicBezTo>
                  <a:pt x="608059" y="2644"/>
                  <a:pt x="648490" y="-1"/>
                  <a:pt x="689768" y="-1"/>
                </a:cubicBezTo>
                <a:cubicBezTo>
                  <a:pt x="1066769" y="-1"/>
                  <a:pt x="1373128" y="220661"/>
                  <a:pt x="1379436" y="494571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弧形 12"/>
          <p:cNvSpPr/>
          <p:nvPr/>
        </p:nvSpPr>
        <p:spPr>
          <a:xfrm flipH="1">
            <a:off x="2412360" y="2708280"/>
            <a:ext cx="1050840" cy="1017720"/>
          </a:xfrm>
          <a:custGeom>
            <a:avLst/>
            <a:gdLst/>
            <a:ahLst/>
            <a:rect l="l" t="t" r="r" b="b"/>
            <a:pathLst>
              <a:path stroke="0" w="1050925" h="1017587">
                <a:moveTo>
                  <a:pt x="566321" y="1540"/>
                </a:moveTo>
                <a:cubicBezTo>
                  <a:pt x="814456" y="20069"/>
                  <a:pt x="1014187" y="205269"/>
                  <a:pt x="1046362" y="441451"/>
                </a:cubicBezTo>
                <a:lnTo>
                  <a:pt x="525462" y="508793"/>
                </a:lnTo>
                <a:close/>
              </a:path>
              <a:path fill="none" w="1050925" h="1017587">
                <a:moveTo>
                  <a:pt x="566321" y="1540"/>
                </a:moveTo>
                <a:cubicBezTo>
                  <a:pt x="814456" y="20069"/>
                  <a:pt x="1014187" y="205269"/>
                  <a:pt x="1046362" y="441451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3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8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39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0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1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47" name="AutoShape 7"/>
          <p:cNvSpPr/>
          <p:nvPr/>
        </p:nvSpPr>
        <p:spPr>
          <a:xfrm>
            <a:off x="324000" y="5734080"/>
            <a:ext cx="1584000" cy="863640"/>
          </a:xfrm>
          <a:custGeom>
            <a:avLst/>
            <a:gdLst>
              <a:gd name="textAreaLeft" fmla="*/ 55800 w 1584000"/>
              <a:gd name="textAreaRight" fmla="*/ 1528200 w 1584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39609" h="21600">
                <a:moveTo>
                  <a:pt x="0" y="0"/>
                </a:moveTo>
                <a:lnTo>
                  <a:pt x="39609" y="0"/>
                </a:lnTo>
                <a:lnTo>
                  <a:pt x="39609" y="21600"/>
                </a:lnTo>
                <a:lnTo>
                  <a:pt x="0" y="21600"/>
                </a:lnTo>
                <a:close/>
              </a:path>
              <a:path fill="lightenLess" w="39609" h="21600">
                <a:moveTo>
                  <a:pt x="0" y="0"/>
                </a:moveTo>
                <a:lnTo>
                  <a:pt x="39609" y="0"/>
                </a:lnTo>
                <a:lnTo>
                  <a:pt x="38209" y="1400"/>
                </a:lnTo>
                <a:lnTo>
                  <a:pt x="1400" y="1400"/>
                </a:lnTo>
                <a:close/>
              </a:path>
              <a:path fill="darken" w="39609" h="21600">
                <a:moveTo>
                  <a:pt x="39609" y="0"/>
                </a:moveTo>
                <a:lnTo>
                  <a:pt x="39609" y="21600"/>
                </a:lnTo>
                <a:lnTo>
                  <a:pt x="38209" y="20200"/>
                </a:lnTo>
                <a:lnTo>
                  <a:pt x="38209" y="1400"/>
                </a:lnTo>
                <a:close/>
              </a:path>
              <a:path fill="darkenLess" w="39609" h="21600">
                <a:moveTo>
                  <a:pt x="39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09" y="20200"/>
                </a:lnTo>
                <a:close/>
              </a:path>
              <a:path fill="lighten" w="39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10"/>
          <p:cNvSpPr/>
          <p:nvPr/>
        </p:nvSpPr>
        <p:spPr>
          <a:xfrm>
            <a:off x="900000" y="4294080"/>
            <a:ext cx="6985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条射线绕它的端点旋转一周，形成的角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周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3984480" y="2577960"/>
            <a:ext cx="1905120" cy="360"/>
            <a:chOff x="3984480" y="2577960"/>
            <a:chExt cx="1905120" cy="360"/>
          </a:xfrm>
        </p:grpSpPr>
        <p:sp>
          <p:nvSpPr>
            <p:cNvPr id="1150" name="Line 2"/>
            <p:cNvSpPr/>
            <p:nvPr/>
          </p:nvSpPr>
          <p:spPr>
            <a:xfrm>
              <a:off x="3984480" y="2577960"/>
              <a:ext cx="1905120" cy="0"/>
            </a:xfrm>
            <a:prstGeom prst="line">
              <a:avLst/>
            </a:prstGeom>
            <a:ln w="38160">
              <a:solidFill>
                <a:srgbClr val="d9d8e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 txBox="1"/>
            <p:nvPr/>
          </p:nvSpPr>
          <p:spPr>
            <a:xfrm>
              <a:off x="3984480" y="2577960"/>
              <a:ext cx="1905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3984120" y="1485720"/>
            <a:ext cx="1452960" cy="1091880"/>
            <a:chOff x="3984120" y="1485720"/>
            <a:chExt cx="1452960" cy="1091880"/>
          </a:xfrm>
        </p:grpSpPr>
        <p:sp>
          <p:nvSpPr>
            <p:cNvPr id="1153" name="Line 6"/>
            <p:cNvSpPr/>
            <p:nvPr/>
          </p:nvSpPr>
          <p:spPr>
            <a:xfrm flipV="1">
              <a:off x="3984480" y="1485720"/>
              <a:ext cx="1452600" cy="1091880"/>
            </a:xfrm>
            <a:prstGeom prst="line">
              <a:avLst/>
            </a:prstGeom>
            <a:ln w="38160">
              <a:solidFill>
                <a:srgbClr val="d9d8e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 txBox="1"/>
            <p:nvPr/>
          </p:nvSpPr>
          <p:spPr>
            <a:xfrm rot="10800000">
              <a:off x="3984120" y="1485720"/>
              <a:ext cx="1452600" cy="10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3984120" y="901800"/>
            <a:ext cx="360" cy="1676160"/>
            <a:chOff x="3984120" y="901800"/>
            <a:chExt cx="360" cy="1676160"/>
          </a:xfrm>
        </p:grpSpPr>
        <p:sp>
          <p:nvSpPr>
            <p:cNvPr id="1156" name="Line 13"/>
            <p:cNvSpPr/>
            <p:nvPr/>
          </p:nvSpPr>
          <p:spPr>
            <a:xfrm flipV="1">
              <a:off x="3984480" y="901800"/>
              <a:ext cx="0" cy="1676160"/>
            </a:xfrm>
            <a:prstGeom prst="line">
              <a:avLst/>
            </a:prstGeom>
            <a:ln w="38160">
              <a:solidFill>
                <a:srgbClr val="d9d8e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 txBox="1"/>
            <p:nvPr/>
          </p:nvSpPr>
          <p:spPr>
            <a:xfrm rot="10800000">
              <a:off x="3984120" y="901800"/>
              <a:ext cx="360" cy="16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2628720" y="1343160"/>
            <a:ext cx="1355400" cy="1234800"/>
            <a:chOff x="2628720" y="1343160"/>
            <a:chExt cx="1355400" cy="1234800"/>
          </a:xfrm>
        </p:grpSpPr>
        <p:sp>
          <p:nvSpPr>
            <p:cNvPr id="1159" name="Line 19"/>
            <p:cNvSpPr/>
            <p:nvPr/>
          </p:nvSpPr>
          <p:spPr>
            <a:xfrm flipH="1" flipV="1">
              <a:off x="2628720" y="1343160"/>
              <a:ext cx="1355400" cy="1234800"/>
            </a:xfrm>
            <a:prstGeom prst="line">
              <a:avLst/>
            </a:prstGeom>
            <a:ln w="38160">
              <a:solidFill>
                <a:srgbClr val="d9d8e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 txBox="1"/>
            <p:nvPr/>
          </p:nvSpPr>
          <p:spPr>
            <a:xfrm rot="10800000">
              <a:off x="2628720" y="1342800"/>
              <a:ext cx="1355400" cy="12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2232000" y="2577600"/>
            <a:ext cx="1752480" cy="360"/>
            <a:chOff x="2232000" y="2577600"/>
            <a:chExt cx="1752480" cy="360"/>
          </a:xfrm>
        </p:grpSpPr>
        <p:sp>
          <p:nvSpPr>
            <p:cNvPr id="1162" name="Line 27"/>
            <p:cNvSpPr/>
            <p:nvPr/>
          </p:nvSpPr>
          <p:spPr>
            <a:xfrm flipH="1">
              <a:off x="2232000" y="2577960"/>
              <a:ext cx="1752480" cy="0"/>
            </a:xfrm>
            <a:prstGeom prst="line">
              <a:avLst/>
            </a:prstGeom>
            <a:ln w="38160">
              <a:solidFill>
                <a:srgbClr val="d9d8e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 txBox="1"/>
            <p:nvPr/>
          </p:nvSpPr>
          <p:spPr>
            <a:xfrm rot="10800000">
              <a:off x="2232000" y="2577600"/>
              <a:ext cx="1752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4" name="Arc 5"/>
          <p:cNvSpPr/>
          <p:nvPr/>
        </p:nvSpPr>
        <p:spPr>
          <a:xfrm rot="3025200">
            <a:off x="3545280" y="2131920"/>
            <a:ext cx="866520" cy="8380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4659" y="4395"/>
                </a:moveTo>
                <a:cubicBezTo>
                  <a:pt x="40040" y="8479"/>
                  <a:pt x="43200" y="14845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6078" y="-1"/>
                  <a:pt x="30446" y="1392"/>
                  <a:pt x="34099" y="3983"/>
                </a:cubicBezTo>
              </a:path>
              <a:path stroke="0" w="43200" h="43200">
                <a:moveTo>
                  <a:pt x="34659" y="4395"/>
                </a:moveTo>
                <a:cubicBezTo>
                  <a:pt x="40040" y="8479"/>
                  <a:pt x="43200" y="14845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6078" y="-1"/>
                  <a:pt x="30446" y="1392"/>
                  <a:pt x="34099" y="3983"/>
                </a:cubicBezTo>
                <a:lnTo>
                  <a:pt x="216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3989520" y="2558880"/>
            <a:ext cx="1440" cy="1663920"/>
            <a:chOff x="3989520" y="2558880"/>
            <a:chExt cx="1440" cy="1663920"/>
          </a:xfrm>
        </p:grpSpPr>
        <p:sp>
          <p:nvSpPr>
            <p:cNvPr id="1166" name="Line 13"/>
            <p:cNvSpPr/>
            <p:nvPr/>
          </p:nvSpPr>
          <p:spPr>
            <a:xfrm>
              <a:off x="3989520" y="2558880"/>
              <a:ext cx="1440" cy="1663920"/>
            </a:xfrm>
            <a:prstGeom prst="line">
              <a:avLst/>
            </a:prstGeom>
            <a:ln w="38160">
              <a:solidFill>
                <a:srgbClr val="d9d8e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 txBox="1"/>
            <p:nvPr/>
          </p:nvSpPr>
          <p:spPr>
            <a:xfrm>
              <a:off x="3989520" y="2558880"/>
              <a:ext cx="1440" cy="1663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3987360" y="2584080"/>
            <a:ext cx="1879920" cy="360"/>
            <a:chOff x="3987360" y="2584080"/>
            <a:chExt cx="1879920" cy="360"/>
          </a:xfrm>
        </p:grpSpPr>
        <p:sp>
          <p:nvSpPr>
            <p:cNvPr id="1169" name="Line 27"/>
            <p:cNvSpPr/>
            <p:nvPr/>
          </p:nvSpPr>
          <p:spPr>
            <a:xfrm>
              <a:off x="3987720" y="2584440"/>
              <a:ext cx="1879560" cy="0"/>
            </a:xfrm>
            <a:prstGeom prst="line">
              <a:avLst/>
            </a:prstGeom>
            <a:ln w="38160">
              <a:solidFill>
                <a:srgbClr val="d9d8e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 txBox="1"/>
            <p:nvPr/>
          </p:nvSpPr>
          <p:spPr>
            <a:xfrm rot="10800000">
              <a:off x="3987360" y="2584080"/>
              <a:ext cx="1879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1" name="Text Box 12"/>
          <p:cNvSpPr/>
          <p:nvPr/>
        </p:nvSpPr>
        <p:spPr>
          <a:xfrm>
            <a:off x="873000" y="120600"/>
            <a:ext cx="150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4.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认识周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13"/>
          <p:cNvSpPr/>
          <p:nvPr/>
        </p:nvSpPr>
        <p:spPr>
          <a:xfrm>
            <a:off x="2659320" y="5614920"/>
            <a:ext cx="2042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周角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=360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evt="end">
                                        <p:tn val="122"/>
                                      </p:cond>
                                    </p:stCondLst>
                                  </p:cTn>
                                  <p:tgtEl>
                                    <p:spTgt spid="1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"/>
                            </p:stCondLst>
                            <p:childTnLst>
                              <p:par>
                                <p:cTn id="12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evt="end">
                                        <p:tn val="126"/>
                                      </p:cond>
                                    </p:stCondLst>
                                  </p:cTn>
                                  <p:tgtEl>
                                    <p:spTgt spid="1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evt="end">
                                        <p:tn val="131"/>
                                      </p:cond>
                                    </p:stCondLst>
                                  </p:cTn>
                                  <p:tgtEl>
                                    <p:spTgt spid="1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1"/>
                            </p:stCondLst>
                            <p:childTnLst>
                              <p:par>
                                <p:cTn id="13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1"/>
                            </p:stCondLst>
                            <p:childTnLst>
                              <p:par>
                                <p:cTn id="1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evt="end">
                                        <p:tn val="140"/>
                                      </p:cond>
                                    </p:stCondLst>
                                  </p:cTn>
                                  <p:tgtEl>
                                    <p:spTgt spid="1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1"/>
                            </p:stCondLst>
                            <p:childTnLst>
                              <p:par>
                                <p:cTn id="14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Text Box 2"/>
          <p:cNvSpPr/>
          <p:nvPr/>
        </p:nvSpPr>
        <p:spPr>
          <a:xfrm>
            <a:off x="4615560" y="74628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锐角、直角、钝角、平角和周角之间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Group 3"/>
          <p:cNvGrpSpPr/>
          <p:nvPr/>
        </p:nvGrpSpPr>
        <p:grpSpPr>
          <a:xfrm>
            <a:off x="714240" y="1716120"/>
            <a:ext cx="4000680" cy="1783800"/>
            <a:chOff x="714240" y="1716120"/>
            <a:chExt cx="4000680" cy="1783800"/>
          </a:xfrm>
        </p:grpSpPr>
        <p:pic>
          <p:nvPicPr>
            <p:cNvPr id="1175" name="Picture 4" descr="E:\2017秋上·黄倩\其他\人\海豚.jpg海豚"/>
            <p:cNvPicPr/>
            <p:nvPr/>
          </p:nvPicPr>
          <p:blipFill>
            <a:blip r:embed="rId1"/>
            <a:stretch/>
          </p:blipFill>
          <p:spPr>
            <a:xfrm>
              <a:off x="714240" y="2636640"/>
              <a:ext cx="710280" cy="86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6" name="Text Box 5"/>
            <p:cNvSpPr/>
            <p:nvPr/>
          </p:nvSpPr>
          <p:spPr>
            <a:xfrm>
              <a:off x="1983600" y="1787040"/>
              <a:ext cx="2030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用“</a:t>
              </a:r>
              <a:r>
                <a:rPr b="1" lang="zh-CN" sz="28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&gt;”“&lt;”</a:t>
              </a:r>
              <a:r>
                <a:rPr b="1" lang="zh-CN" sz="28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表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它们的关系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AutoShape 6"/>
            <p:cNvSpPr/>
            <p:nvPr/>
          </p:nvSpPr>
          <p:spPr>
            <a:xfrm>
              <a:off x="1405080" y="1716120"/>
              <a:ext cx="3309840" cy="1153440"/>
            </a:xfrm>
            <a:prstGeom prst="wedgeRoundRectCallout">
              <a:avLst>
                <a:gd name="adj1" fmla="val -43750"/>
                <a:gd name="adj2" fmla="val 70000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Group 7"/>
          <p:cNvGrpSpPr/>
          <p:nvPr/>
        </p:nvGrpSpPr>
        <p:grpSpPr>
          <a:xfrm>
            <a:off x="5076720" y="1989000"/>
            <a:ext cx="3527640" cy="2074680"/>
            <a:chOff x="5076720" y="1989000"/>
            <a:chExt cx="3527640" cy="2074680"/>
          </a:xfrm>
        </p:grpSpPr>
        <p:pic>
          <p:nvPicPr>
            <p:cNvPr id="1179" name="Picture 8" descr="80"/>
            <p:cNvPicPr/>
            <p:nvPr/>
          </p:nvPicPr>
          <p:blipFill>
            <a:blip r:embed="rId2"/>
            <a:stretch/>
          </p:blipFill>
          <p:spPr>
            <a:xfrm>
              <a:off x="5076720" y="2709360"/>
              <a:ext cx="1074240" cy="13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0" name="Picture 9" descr="85"/>
            <p:cNvPicPr/>
            <p:nvPr/>
          </p:nvPicPr>
          <p:blipFill>
            <a:blip r:embed="rId3"/>
            <a:stretch/>
          </p:blipFill>
          <p:spPr>
            <a:xfrm>
              <a:off x="6229080" y="1989000"/>
              <a:ext cx="2375280" cy="122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1" name="Text Box 10"/>
          <p:cNvSpPr/>
          <p:nvPr/>
        </p:nvSpPr>
        <p:spPr>
          <a:xfrm>
            <a:off x="1743120" y="4562640"/>
            <a:ext cx="338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11"/>
          <p:cNvSpPr/>
          <p:nvPr/>
        </p:nvSpPr>
        <p:spPr>
          <a:xfrm>
            <a:off x="3083040" y="4551480"/>
            <a:ext cx="338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12"/>
          <p:cNvSpPr/>
          <p:nvPr/>
        </p:nvSpPr>
        <p:spPr>
          <a:xfrm>
            <a:off x="4392720" y="4562640"/>
            <a:ext cx="338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4" name="Group 13"/>
          <p:cNvGrpSpPr/>
          <p:nvPr/>
        </p:nvGrpSpPr>
        <p:grpSpPr>
          <a:xfrm>
            <a:off x="1645200" y="4568760"/>
            <a:ext cx="4546800" cy="550800"/>
            <a:chOff x="1645200" y="4568760"/>
            <a:chExt cx="4546800" cy="550800"/>
          </a:xfrm>
        </p:grpSpPr>
        <p:sp>
          <p:nvSpPr>
            <p:cNvPr id="1185" name="Text Box 14"/>
            <p:cNvSpPr/>
            <p:nvPr/>
          </p:nvSpPr>
          <p:spPr>
            <a:xfrm>
              <a:off x="1645200" y="4568760"/>
              <a:ext cx="4546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锐角  </a:t>
              </a:r>
              <a:r>
                <a:rPr b="1" lang="zh-CN" sz="3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 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直角     钝角     平角     周角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Oval 15"/>
            <p:cNvSpPr/>
            <p:nvPr/>
          </p:nvSpPr>
          <p:spPr>
            <a:xfrm>
              <a:off x="1735200" y="4627080"/>
              <a:ext cx="431280" cy="43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Oval 16"/>
            <p:cNvSpPr/>
            <p:nvPr/>
          </p:nvSpPr>
          <p:spPr>
            <a:xfrm>
              <a:off x="3074760" y="4616280"/>
              <a:ext cx="431640" cy="43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Oval 17"/>
            <p:cNvSpPr/>
            <p:nvPr/>
          </p:nvSpPr>
          <p:spPr>
            <a:xfrm>
              <a:off x="4383720" y="4627080"/>
              <a:ext cx="431640" cy="43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Oval 18"/>
            <p:cNvSpPr/>
            <p:nvPr/>
          </p:nvSpPr>
          <p:spPr>
            <a:xfrm>
              <a:off x="5661000" y="4616280"/>
              <a:ext cx="431640" cy="43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0" name="Text Box 19"/>
          <p:cNvSpPr/>
          <p:nvPr/>
        </p:nvSpPr>
        <p:spPr>
          <a:xfrm>
            <a:off x="5670720" y="4551480"/>
            <a:ext cx="336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&l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1" name="Group 20"/>
          <p:cNvGrpSpPr/>
          <p:nvPr/>
        </p:nvGrpSpPr>
        <p:grpSpPr>
          <a:xfrm>
            <a:off x="1291680" y="5437080"/>
            <a:ext cx="5863320" cy="550800"/>
            <a:chOff x="1291680" y="5437080"/>
            <a:chExt cx="5863320" cy="550800"/>
          </a:xfrm>
        </p:grpSpPr>
        <p:sp>
          <p:nvSpPr>
            <p:cNvPr id="1192" name="Text Box 21"/>
            <p:cNvSpPr/>
            <p:nvPr/>
          </p:nvSpPr>
          <p:spPr>
            <a:xfrm>
              <a:off x="1291680" y="5437080"/>
              <a:ext cx="5863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周角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=          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平角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=           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直角         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3" name=""/>
            <p:cNvGrpSpPr/>
            <p:nvPr/>
          </p:nvGrpSpPr>
          <p:grpSpPr>
            <a:xfrm>
              <a:off x="2338920" y="5877720"/>
              <a:ext cx="1080000" cy="360"/>
              <a:chOff x="2338920" y="5877720"/>
              <a:chExt cx="1080000" cy="360"/>
            </a:xfrm>
          </p:grpSpPr>
          <p:sp>
            <p:nvSpPr>
              <p:cNvPr id="1194" name="Line 22"/>
              <p:cNvSpPr/>
              <p:nvPr/>
            </p:nvSpPr>
            <p:spPr>
              <a:xfrm>
                <a:off x="2338920" y="5877720"/>
                <a:ext cx="1080000" cy="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 txBox="1"/>
              <p:nvPr/>
            </p:nvSpPr>
            <p:spPr>
              <a:xfrm>
                <a:off x="2338920" y="5877720"/>
                <a:ext cx="108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4374360" y="5866920"/>
              <a:ext cx="1080000" cy="360"/>
              <a:chOff x="4374360" y="5866920"/>
              <a:chExt cx="1080000" cy="360"/>
            </a:xfrm>
          </p:grpSpPr>
          <p:sp>
            <p:nvSpPr>
              <p:cNvPr id="1197" name="Line 23"/>
              <p:cNvSpPr/>
              <p:nvPr/>
            </p:nvSpPr>
            <p:spPr>
              <a:xfrm>
                <a:off x="4374360" y="5866920"/>
                <a:ext cx="1080000" cy="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 txBox="1"/>
              <p:nvPr/>
            </p:nvSpPr>
            <p:spPr>
              <a:xfrm>
                <a:off x="4374360" y="5866920"/>
                <a:ext cx="108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9" name="Text Box 24"/>
          <p:cNvSpPr/>
          <p:nvPr/>
        </p:nvSpPr>
        <p:spPr>
          <a:xfrm>
            <a:off x="2701080" y="53942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25"/>
          <p:cNvSpPr/>
          <p:nvPr/>
        </p:nvSpPr>
        <p:spPr>
          <a:xfrm>
            <a:off x="4747320" y="53942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八边形 7"/>
          <p:cNvSpPr/>
          <p:nvPr/>
        </p:nvSpPr>
        <p:spPr>
          <a:xfrm>
            <a:off x="457200" y="77940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Text Box 5"/>
          <p:cNvSpPr/>
          <p:nvPr/>
        </p:nvSpPr>
        <p:spPr>
          <a:xfrm>
            <a:off x="4012560" y="1628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下面的角各是哪一种角？写出角的名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3" name="Picture 6" descr="88"/>
          <p:cNvPicPr/>
          <p:nvPr/>
        </p:nvPicPr>
        <p:blipFill>
          <a:blip r:embed="rId1"/>
          <a:stretch/>
        </p:blipFill>
        <p:spPr>
          <a:xfrm>
            <a:off x="714240" y="2637000"/>
            <a:ext cx="7929720" cy="906480"/>
          </a:xfrm>
          <a:prstGeom prst="rect">
            <a:avLst/>
          </a:prstGeom>
          <a:ln w="0">
            <a:noFill/>
          </a:ln>
        </p:spPr>
      </p:pic>
      <p:grpSp>
        <p:nvGrpSpPr>
          <p:cNvPr id="1204" name="Group 7"/>
          <p:cNvGrpSpPr/>
          <p:nvPr/>
        </p:nvGrpSpPr>
        <p:grpSpPr>
          <a:xfrm>
            <a:off x="900000" y="4025880"/>
            <a:ext cx="7589880" cy="630720"/>
            <a:chOff x="900000" y="4025880"/>
            <a:chExt cx="7589880" cy="630720"/>
          </a:xfrm>
        </p:grpSpPr>
        <p:grpSp>
          <p:nvGrpSpPr>
            <p:cNvPr id="1205" name="Group 8"/>
            <p:cNvGrpSpPr/>
            <p:nvPr/>
          </p:nvGrpSpPr>
          <p:grpSpPr>
            <a:xfrm>
              <a:off x="900000" y="4043520"/>
              <a:ext cx="1392480" cy="613080"/>
              <a:chOff x="900000" y="4043520"/>
              <a:chExt cx="1392480" cy="613080"/>
            </a:xfrm>
          </p:grpSpPr>
          <p:sp>
            <p:nvSpPr>
              <p:cNvPr id="1206" name="Text Box 9"/>
              <p:cNvSpPr/>
              <p:nvPr/>
            </p:nvSpPr>
            <p:spPr>
              <a:xfrm>
                <a:off x="900000" y="4075200"/>
                <a:ext cx="1089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（    ）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Text Box 10"/>
              <p:cNvSpPr/>
              <p:nvPr/>
            </p:nvSpPr>
            <p:spPr>
              <a:xfrm>
                <a:off x="1868040" y="404352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角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Group 11"/>
            <p:cNvGrpSpPr/>
            <p:nvPr/>
          </p:nvGrpSpPr>
          <p:grpSpPr>
            <a:xfrm>
              <a:off x="3181320" y="4033800"/>
              <a:ext cx="1397520" cy="613080"/>
              <a:chOff x="3181320" y="4033800"/>
              <a:chExt cx="1397520" cy="613080"/>
            </a:xfrm>
          </p:grpSpPr>
          <p:sp>
            <p:nvSpPr>
              <p:cNvPr id="1209" name="Text Box 12"/>
              <p:cNvSpPr/>
              <p:nvPr/>
            </p:nvSpPr>
            <p:spPr>
              <a:xfrm>
                <a:off x="3181320" y="4065480"/>
                <a:ext cx="1089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（    ）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Text Box 13"/>
              <p:cNvSpPr/>
              <p:nvPr/>
            </p:nvSpPr>
            <p:spPr>
              <a:xfrm>
                <a:off x="4154400" y="403380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角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Group 14"/>
            <p:cNvGrpSpPr/>
            <p:nvPr/>
          </p:nvGrpSpPr>
          <p:grpSpPr>
            <a:xfrm>
              <a:off x="4792320" y="4035960"/>
              <a:ext cx="1697760" cy="613080"/>
              <a:chOff x="4792320" y="4035960"/>
              <a:chExt cx="1697760" cy="613080"/>
            </a:xfrm>
          </p:grpSpPr>
          <p:sp>
            <p:nvSpPr>
              <p:cNvPr id="1212" name="Text Box 15"/>
              <p:cNvSpPr/>
              <p:nvPr/>
            </p:nvSpPr>
            <p:spPr>
              <a:xfrm>
                <a:off x="4792320" y="4067640"/>
                <a:ext cx="150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（   ）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Text Box 16"/>
              <p:cNvSpPr/>
              <p:nvPr/>
            </p:nvSpPr>
            <p:spPr>
              <a:xfrm>
                <a:off x="6065640" y="403596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角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4" name="Group 17"/>
            <p:cNvGrpSpPr/>
            <p:nvPr/>
          </p:nvGrpSpPr>
          <p:grpSpPr>
            <a:xfrm>
              <a:off x="6647040" y="4025880"/>
              <a:ext cx="1842840" cy="613080"/>
              <a:chOff x="6647040" y="4025880"/>
              <a:chExt cx="1842840" cy="613080"/>
            </a:xfrm>
          </p:grpSpPr>
          <p:sp>
            <p:nvSpPr>
              <p:cNvPr id="1215" name="Text Box 18"/>
              <p:cNvSpPr/>
              <p:nvPr/>
            </p:nvSpPr>
            <p:spPr>
              <a:xfrm>
                <a:off x="6647040" y="4057560"/>
                <a:ext cx="1607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（   ）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Text Box 19"/>
              <p:cNvSpPr/>
              <p:nvPr/>
            </p:nvSpPr>
            <p:spPr>
              <a:xfrm>
                <a:off x="8065440" y="402588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角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7" name="Text Box 20"/>
          <p:cNvSpPr/>
          <p:nvPr/>
        </p:nvSpPr>
        <p:spPr>
          <a:xfrm>
            <a:off x="1225080" y="4056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21"/>
          <p:cNvSpPr/>
          <p:nvPr/>
        </p:nvSpPr>
        <p:spPr>
          <a:xfrm>
            <a:off x="3511080" y="4046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22"/>
          <p:cNvSpPr/>
          <p:nvPr/>
        </p:nvSpPr>
        <p:spPr>
          <a:xfrm>
            <a:off x="5565240" y="4056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23"/>
          <p:cNvSpPr/>
          <p:nvPr/>
        </p:nvSpPr>
        <p:spPr>
          <a:xfrm>
            <a:off x="7494120" y="4046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22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3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224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5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6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7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8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9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0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1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32" name="Rectangle 64"/>
          <p:cNvSpPr/>
          <p:nvPr/>
        </p:nvSpPr>
        <p:spPr>
          <a:xfrm>
            <a:off x="600120" y="179280"/>
            <a:ext cx="2502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3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5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236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7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8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44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文本框 99"/>
          <p:cNvSpPr/>
          <p:nvPr/>
        </p:nvSpPr>
        <p:spPr>
          <a:xfrm>
            <a:off x="425520" y="866880"/>
            <a:ext cx="83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填一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         ）的角是锐角，（                   ）的角是钝角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周角＝（      ）平角＝（     ）直角＝（        ）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. 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时整，钟面上时针和分针成（       ）度，是（     ）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角的大小与（                       ）有关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个锐角和一个直角可以组成一个（          ）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文本框 1"/>
          <p:cNvSpPr/>
          <p:nvPr/>
        </p:nvSpPr>
        <p:spPr>
          <a:xfrm>
            <a:off x="1496880" y="1442880"/>
            <a:ext cx="14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小于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文本框 2"/>
          <p:cNvSpPr/>
          <p:nvPr/>
        </p:nvSpPr>
        <p:spPr>
          <a:xfrm>
            <a:off x="4708440" y="1449360"/>
            <a:ext cx="25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大于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90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度小于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180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文本框 3"/>
          <p:cNvSpPr/>
          <p:nvPr/>
        </p:nvSpPr>
        <p:spPr>
          <a:xfrm>
            <a:off x="2741760" y="1913040"/>
            <a:ext cx="41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文本框 4"/>
          <p:cNvSpPr/>
          <p:nvPr/>
        </p:nvSpPr>
        <p:spPr>
          <a:xfrm>
            <a:off x="4687920" y="1919160"/>
            <a:ext cx="41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文本框 6"/>
          <p:cNvSpPr/>
          <p:nvPr/>
        </p:nvSpPr>
        <p:spPr>
          <a:xfrm>
            <a:off x="6657840" y="1917720"/>
            <a:ext cx="6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文本框 8"/>
          <p:cNvSpPr/>
          <p:nvPr/>
        </p:nvSpPr>
        <p:spPr>
          <a:xfrm>
            <a:off x="5094360" y="236520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文本框 9"/>
          <p:cNvSpPr/>
          <p:nvPr/>
        </p:nvSpPr>
        <p:spPr>
          <a:xfrm>
            <a:off x="7062840" y="237168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文本框 10"/>
          <p:cNvSpPr/>
          <p:nvPr/>
        </p:nvSpPr>
        <p:spPr>
          <a:xfrm>
            <a:off x="3235320" y="2840040"/>
            <a:ext cx="17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角的开口大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文本框 12"/>
          <p:cNvSpPr/>
          <p:nvPr/>
        </p:nvSpPr>
        <p:spPr>
          <a:xfrm>
            <a:off x="5643720" y="326700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01:06:00Z</dcterms:created>
  <dc:creator/>
  <dc:description/>
  <dc:language>en-US</dc:language>
  <cp:lastModifiedBy>万润仪器贸易公司</cp:lastModifiedBy>
  <dcterms:modified xsi:type="dcterms:W3CDTF">2020-08-21T08:54:22Z</dcterms:modified>
  <cp:revision>6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